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6858000" cy="975204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52040"/>
              <a:gd name="textAreaBottom" fmla="*/ 9751680 h 9752040"/>
            </a:gdLst>
            <a:ahLst/>
            <a:rect l="textAreaLeft" t="textAreaTop" r="textAreaRight" b="textAreaBottom"/>
            <a:pathLst>
              <a:path w="21600" h="30715">
                <a:moveTo>
                  <a:pt x="5" y="0"/>
                </a:moveTo>
                <a:arcTo wR="5" hR="5" stAng="16200000" swAng="-5400000"/>
                <a:lnTo>
                  <a:pt x="0" y="30710"/>
                </a:lnTo>
                <a:arcTo wR="5" hR="5" stAng="10800000" swAng="-5400000"/>
                <a:lnTo>
                  <a:pt x="21595" y="3071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dt" idx="3"/>
          </p:nvPr>
        </p:nvSpPr>
        <p:spPr>
          <a:xfrm>
            <a:off x="3882600" y="-360"/>
            <a:ext cx="29703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ldImg"/>
          </p:nvPr>
        </p:nvSpPr>
        <p:spPr>
          <a:xfrm>
            <a:off x="991800" y="731520"/>
            <a:ext cx="4870440" cy="36543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body"/>
          </p:nvPr>
        </p:nvSpPr>
        <p:spPr>
          <a:xfrm>
            <a:off x="685440" y="4630680"/>
            <a:ext cx="548316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4"/>
          </p:nvPr>
        </p:nvSpPr>
        <p:spPr>
          <a:xfrm>
            <a:off x="3882600" y="9261360"/>
            <a:ext cx="297036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3B39FA-4BA8-49E3-8ECA-0D479CA1EA3F}" type="slidenum">
              <a:rPr b="0" lang="it-IT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125" name=""/>
          <p:cNvSpPr/>
          <p:nvPr/>
        </p:nvSpPr>
        <p:spPr>
          <a:xfrm>
            <a:off x="685800" y="4630680"/>
            <a:ext cx="5484960" cy="43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F99AD51-884B-4AEE-887C-82448AE7161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128" name=""/>
          <p:cNvSpPr/>
          <p:nvPr/>
        </p:nvSpPr>
        <p:spPr>
          <a:xfrm>
            <a:off x="685800" y="4630680"/>
            <a:ext cx="5484960" cy="43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B7F3541-69A5-4BBF-8D93-0B8627938C0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131" name=""/>
          <p:cNvSpPr/>
          <p:nvPr/>
        </p:nvSpPr>
        <p:spPr>
          <a:xfrm>
            <a:off x="685800" y="4630680"/>
            <a:ext cx="5484960" cy="43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CA995E5-DB99-4EC8-9781-84B0607A5AA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134" name=""/>
          <p:cNvSpPr/>
          <p:nvPr/>
        </p:nvSpPr>
        <p:spPr>
          <a:xfrm>
            <a:off x="685800" y="4630680"/>
            <a:ext cx="5484960" cy="43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552F020-0A93-46DD-92EA-5134A8B5819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137" name=""/>
          <p:cNvSpPr/>
          <p:nvPr/>
        </p:nvSpPr>
        <p:spPr>
          <a:xfrm>
            <a:off x="685800" y="4630680"/>
            <a:ext cx="5484960" cy="438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77D9638-3C74-4387-B7DC-4A60C64FFE5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8EE29-71DC-40FB-A808-A519AD1A3C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8368C-1A22-439C-A599-EC328FEB28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76E9F-B4AE-4D47-9836-FC914B0692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B12D9-4259-424C-A676-A4E4DDE645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DECBE-9E2D-4CB8-B14B-3E6426A1881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7123F-D020-40BE-BE7F-F349A2E841D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07324-0FC8-4750-8425-0D98B27DE7C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CD67A-18D4-4428-BEAC-5095CB59C25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92CC1-8B6F-4EB6-9A62-3F87795A2E4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72931-F263-4D4F-84DF-8BB43C42D45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EF5AD-541E-425E-BF0E-E0AD13953F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80157-B050-449B-B5ED-C96C1EFED4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1114E-E867-4D61-B940-B5A16E5FB0C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33AED-8BAE-413E-B447-B032F17F039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D0CE8-B504-498B-846C-2A0A9F2BE36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99DBA-2469-41EA-BFB0-5501C0F3F10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AC428-57ED-4600-88A1-1F8E410CAB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72133-CBEE-4321-A5BB-1E3494C3BA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3A8E2-0338-4439-A972-A4AC2F5492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A8B3B-6488-4E49-BF64-4DDD45F452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6F1F7-E748-4FA1-9E9B-3FF8B71686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3D2D1-FD5A-4339-B0F7-4C3E067341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8BCE3-25FD-4F2F-978A-FF8F83272C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616A8-2BFA-497A-8C98-0DF57E1827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42EE55F-CD6B-4EE9-B8B4-9620674D46BD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1440"/>
          </a:xfrm>
          <a:prstGeom prst="line">
            <a:avLst/>
          </a:prstGeom>
          <a:ln cap="sq"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3962520"/>
            <a:ext cx="6512040" cy="1440"/>
          </a:xfrm>
          <a:prstGeom prst="line">
            <a:avLst/>
          </a:prstGeom>
          <a:ln cap="sq"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20D88D-4346-4DEF-BAF3-0B432AB89DEC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1295280"/>
            <a:ext cx="807732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4600" spc="-1" strike="noStrike">
                <a:solidFill>
                  <a:srgbClr val="006633"/>
                </a:solidFill>
                <a:latin typeface="Garamond"/>
              </a:rPr>
              <a:t>Percorsi formativi </a:t>
            </a:r>
            <a:br>
              <a:rPr sz="4600"/>
            </a:br>
            <a:r>
              <a:rPr b="0" lang="it-IT" sz="4600" spc="-1" strike="noStrike">
                <a:solidFill>
                  <a:srgbClr val="006633"/>
                </a:solidFill>
                <a:latin typeface="Garamond"/>
              </a:rPr>
              <a:t>tecnici e professionali</a:t>
            </a:r>
            <a:br>
              <a:rPr sz="4600"/>
            </a:br>
            <a:r>
              <a:rPr b="0" lang="it-IT" sz="4600" spc="-1" strike="noStrike">
                <a:solidFill>
                  <a:srgbClr val="006633"/>
                </a:solidFill>
                <a:latin typeface="Garamond"/>
              </a:rPr>
              <a:t>secondari, superiori ed universitari  </a:t>
            </a:r>
            <a:br>
              <a:rPr sz="4600"/>
            </a:b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6633"/>
                </a:solidFill>
                <a:latin typeface="Garamond"/>
              </a:rPr>
              <a:t>Modello</a:t>
            </a:r>
            <a:r>
              <a:rPr b="0" lang="it-IT" sz="34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31720" indent="-53172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Il sistema dell’offerta formativa professionalizzante prevede tre tipologie dei percorsi formativi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professional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tecnic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universitar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Tali percorsi rilasciano titoli riferiti a famiglie/figure professionali rispondenti alle necessità del mercato sia con ingressi sia liberi sia normati per legg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Essi si collocano entro una logica di filiera verticale le cui tappe sono definite da gradi successivi di competenza secondo il modello EQF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6633"/>
                </a:solidFill>
                <a:latin typeface="Garamond"/>
              </a:rPr>
              <a:t>Livelli EQF dei titoli rilasci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57200" y="1600200"/>
          <a:ext cx="3354120" cy="4563720"/>
        </p:xfrm>
        <a:graphic>
          <a:graphicData uri="http://schemas.openxmlformats.org/drawingml/2006/table">
            <a:tbl>
              <a:tblPr/>
              <a:tblGrid>
                <a:gridCol w="2515680"/>
                <a:gridCol w="838440"/>
              </a:tblGrid>
              <a:tr h="914400"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urea trienn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ploma tecnico superior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alizzazione tecnica superi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ploma di Sta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ploma profession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644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fica profession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44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4267080" y="1600200"/>
          <a:ext cx="4420800" cy="4547880"/>
        </p:xfrm>
        <a:graphic>
          <a:graphicData uri="http://schemas.openxmlformats.org/drawingml/2006/table">
            <a:tbl>
              <a:tblPr/>
              <a:tblGrid>
                <a:gridCol w="4420800"/>
              </a:tblGrid>
              <a:tr h="882720">
                <a:tc>
                  <a:txBody>
                    <a:bodyPr lIns="90000" rIns="90000" tIns="565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ire attività o progetti tecnici o professionali complessi, assumendosi la responsabilità della presa di decisioni in contesti di lavoro o di studio imprevedibili; assumersi la responsabilità di gestire lo sviluppo professionale di singoli individui e di grupp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05440">
                <a:tc>
                  <a:txBody>
                    <a:bodyPr lIns="90000" rIns="90000" tIns="565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stire e supervisionare in contesti di attività di lavoro o di studio soggetti a cambiamenti imprevedibili; valutare e migliorare le prestazioni di se stessi e degli alt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2160">
                <a:tc>
                  <a:txBody>
                    <a:bodyPr lIns="90000" rIns="90000" tIns="565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ogestirsi all’interno di linee guida in contesti di lavoro o di studio solitamente prevedibili, ma soggetti al cambiamento; supervisionare il lavoro di routine di altre persone, assumendosi una certa responsabilità per la valutazione  e il miglioramento delle attività di lavoro o di stud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560">
                <a:tc>
                  <a:txBody>
                    <a:bodyPr lIns="90000" rIns="90000" tIns="5652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umersi la responsabilità dello svolgimento di compiti sul lavoro e nello studio; adattare il proprio comportamento alle circostanze per risolvere proble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6633"/>
                </a:solidFill>
                <a:latin typeface="Garamond"/>
              </a:rPr>
              <a:t>Percorribilità orizzontale e verticale</a:t>
            </a:r>
            <a:r>
              <a:rPr b="0" lang="it-IT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9480" indent="-6080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I percorsi formativi professionalizzanti disegnano una mappa tale da consentire ai destinatari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L’inserimento nel mondo del lavoro al termine di ogni tapp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La percorribilità vertica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Il riconoscimento dei crediti per la percorribilità orizzonta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Arial"/>
              </a:rPr>
              <a:t>È previsto il riconoscimento dei crediti formativi formali (acquisiti entro le istituzioni abilitate a rilasciare i titoli), oltre che non formali (formazione certificata che non rilascia titoli) ed informali (apprendimenti acquisiti dall’esperienza).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57200" y="228600"/>
            <a:ext cx="82296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100" spc="-1" strike="noStrike">
                <a:solidFill>
                  <a:srgbClr val="006633"/>
                </a:solidFill>
                <a:latin typeface="Garamond"/>
              </a:rPr>
              <a:t>Mappa logica dei percorsi formativi professionalizzanti</a:t>
            </a:r>
            <a:r>
              <a:rPr b="0" lang="it-IT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914400"/>
            <a:ext cx="762120" cy="56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Anni di stud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52480" y="4724280"/>
            <a:ext cx="1371600" cy="13881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Qualific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52480" y="4038480"/>
            <a:ext cx="1371600" cy="554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ipl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52480" y="3048120"/>
            <a:ext cx="1371600" cy="7369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pecializzazione tecnica superi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F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876920" y="3048120"/>
            <a:ext cx="1371600" cy="30556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iplom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i Sta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52480" y="6172200"/>
            <a:ext cx="1371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rcorso profession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876920" y="62485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rcorso tecnic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76920" y="1447920"/>
            <a:ext cx="1371600" cy="101484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iploma tecnico superio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1066680"/>
            <a:ext cx="1371600" cy="13881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iploma di lau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29000" y="3048120"/>
            <a:ext cx="1066680" cy="703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Modulo integrativo per il diploma di sta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934320" y="6248520"/>
            <a:ext cx="1371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rcorso universitar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"/>
          <p:cNvCxnSpPr>
            <a:endCxn id="105" idx="2"/>
          </p:cNvCxnSpPr>
          <p:nvPr/>
        </p:nvCxnSpPr>
        <p:spPr>
          <a:xfrm flipV="1">
            <a:off x="2437920" y="4592160"/>
            <a:ext cx="2520" cy="13248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endCxn id="106" idx="2"/>
          </p:cNvCxnSpPr>
          <p:nvPr/>
        </p:nvCxnSpPr>
        <p:spPr>
          <a:xfrm flipV="1">
            <a:off x="2435400" y="3784680"/>
            <a:ext cx="3600" cy="17820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3505320" y="4114800"/>
            <a:ext cx="1066680" cy="1172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AR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r 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assagg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"/>
          <p:cNvCxnSpPr>
            <a:endCxn id="116" idx="1"/>
          </p:cNvCxnSpPr>
          <p:nvPr/>
        </p:nvCxnSpPr>
        <p:spPr>
          <a:xfrm>
            <a:off x="3123720" y="4343040"/>
            <a:ext cx="383400" cy="359640"/>
          </a:xfrm>
          <a:prstGeom prst="bentConnector3">
            <a:avLst>
              <a:gd name="adj1" fmla="val 20112"/>
            </a:avLst>
          </a:prstGeom>
          <a:ln cap="sq"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8" name=""/>
          <p:cNvCxnSpPr>
            <a:stCxn id="104" idx="3"/>
            <a:endCxn id="116" idx="1"/>
          </p:cNvCxnSpPr>
          <p:nvPr/>
        </p:nvCxnSpPr>
        <p:spPr>
          <a:xfrm flipV="1">
            <a:off x="3123720" y="4700160"/>
            <a:ext cx="381960" cy="720000"/>
          </a:xfrm>
          <a:prstGeom prst="bentConnector3">
            <a:avLst>
              <a:gd name="adj1" fmla="val 49905"/>
            </a:avLst>
          </a:prstGeom>
          <a:ln cap="sq"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9" name=""/>
          <p:cNvCxnSpPr/>
          <p:nvPr/>
        </p:nvCxnSpPr>
        <p:spPr>
          <a:xfrm flipH="1" flipV="1">
            <a:off x="4571280" y="4647960"/>
            <a:ext cx="305640" cy="216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0" name=""/>
          <p:cNvCxnSpPr>
            <a:stCxn id="107" idx="0"/>
            <a:endCxn id="110" idx="2"/>
          </p:cNvCxnSpPr>
          <p:nvPr/>
        </p:nvCxnSpPr>
        <p:spPr>
          <a:xfrm flipV="1">
            <a:off x="5562720" y="2461680"/>
            <a:ext cx="2160" cy="58680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/>
          <p:nvPr/>
        </p:nvCxnSpPr>
        <p:spPr>
          <a:xfrm flipH="1" flipV="1" rot="5400000">
            <a:off x="6209280" y="1789200"/>
            <a:ext cx="687960" cy="1981800"/>
          </a:xfrm>
          <a:prstGeom prst="bentConnector3">
            <a:avLst>
              <a:gd name="adj1" fmla="val 56125"/>
            </a:avLst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2" idx="0"/>
            <a:endCxn id="110" idx="2"/>
          </p:cNvCxnSpPr>
          <p:nvPr/>
        </p:nvCxnSpPr>
        <p:spPr>
          <a:xfrm flipH="1" flipV="1" rot="5400000">
            <a:off x="4467600" y="1954440"/>
            <a:ext cx="589680" cy="1600920"/>
          </a:xfrm>
          <a:prstGeom prst="bentConnector3">
            <a:avLst>
              <a:gd name="adj1" fmla="val 49969"/>
            </a:avLst>
          </a:prstGeom>
          <a:ln cap="sq"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5" idx="0"/>
            <a:endCxn id="112" idx="2"/>
          </p:cNvCxnSpPr>
          <p:nvPr/>
        </p:nvCxnSpPr>
        <p:spPr>
          <a:xfrm flipH="1" flipV="1" rot="5400000">
            <a:off x="3054960" y="3132360"/>
            <a:ext cx="291240" cy="1524960"/>
          </a:xfrm>
          <a:prstGeom prst="bentConnector5">
            <a:avLst>
              <a:gd name="adj1" fmla="val 423762"/>
              <a:gd name="adj2" fmla="val 149870"/>
              <a:gd name="adj3" fmla="val 21039"/>
            </a:avLst>
          </a:prstGeom>
          <a:ln cap="sq"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rio</cp:lastModifiedBy>
  <dcterms:modified xsi:type="dcterms:W3CDTF">2010-06-10T18:49:35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